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36C6-44F2-43D1-AC68-8B718120A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867D-FED1-4680-8550-4811B6449702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D30F-DD31-4500-9775-8A00EC4654A3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74F9-584B-4F40-89D9-0BB0A0056A8C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FB0A-1564-4534-A4FF-8A85C585E6C0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6806-82BD-42E4-B422-4F4CF017F8B8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76D1-C5B8-4AB7-A88A-21F4043C816E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0375-EB50-474F-8724-80769EF69040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0174-3FBE-4C53-BA0D-289709F9F7C6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7FFB-0F67-4DEB-9AD2-5A30CA16B359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F36-6212-40A2-B062-6FA1E418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3EE-0DBB-44CD-A23B-859AAFB5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927-0CAA-4EAD-8BA0-71C7F71E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E33E-ECA1-481F-8078-BA38094E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913B-47C6-4F61-AFD7-7159474B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12FC-CB4D-4F43-B401-E90008A1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D92A-6A7F-49FE-900A-642C36B2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CA59-6368-4992-AEE8-30100C75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B20B-75CD-462C-A12E-C21DF7DD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BFC2-72B4-4B32-9E48-28326642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8A3D-DC39-4FC7-9B74-6D59EBC1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3C22-87EE-40B6-95A5-2B65A24E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5905-1B60-4783-847E-25B01887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AC3B-5479-4CF4-8051-E573134F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A8CA-F24B-4EE7-AA60-77E6CC7D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C3AC-6297-438D-9ECE-31610B47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E249-F6F3-46AD-BE67-FC46F918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ABC-DE27-4207-89BF-742F3194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94FB-735F-46ED-959E-0A0713DD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5BF-6456-4D2B-BAB3-1C8F3075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898-DF3F-4B1D-93DA-CE97E89B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A161-8CB7-43FF-9318-DAF82907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8D0-8C62-4A20-B73B-756CDF20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BFE-61F9-4852-A83E-98C39EE5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363A-BC2F-4634-A7B4-20AB05E711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A3D2-D362-4792-B442-875D9E9A6686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cc"/>
                </a:solidFill>
                <a:latin typeface="Arial"/>
              </a:rPr>
              <a:t>Chemistry 11</a:t>
            </a:r>
            <a:endParaRPr b="0" lang="en-US" sz="6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toichiometr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What is Stoichiometry?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oichiometry is the study of th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quantitie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nvolved in chemical reaction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word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stoichiometry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eans “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measuring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th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element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oichiometry allows a chemist to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predic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how much of a reactant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react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or how much of a product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form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n a chemical reactio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Balanced Reaction Equations 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and the Mole Ratio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sider this balanced reaction equation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(s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+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(g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A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3(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oefficient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of this reaction represent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- The number of react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ARTICL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- The number of react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MO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These numbers are FIXED, the ratio of reacting substances NEVER chang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Balanced Reaction Equations 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and the Mole Ratio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e can interpret this reaction in 2 way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(s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+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(g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A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3(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) Every ti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Al react wit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lecul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lecul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Al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orm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) Everyti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l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Al atoms react wit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 mol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molecules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l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Al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molecules form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Using the Mole Ratio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member that the coefficients from a balanced reaction represent the ratio of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l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substances that react and form during a chemical reactio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se numbers are fixed - they do not chan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e can use these ratios to predict the amounts of substances that react and form in a reaction when any amount of a substance is reacted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conversion factor we use to make these predictions is called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LE RATIO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Using the Mole Ratio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this reactio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Al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Arial"/>
              </a:rPr>
              <a:t>(s)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 +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O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Arial"/>
              </a:rPr>
              <a:t>2(g)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→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Al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O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3(s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is the minimum amount of 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oles that react with 1.20 moles of Al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 solve this, create a mole rati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988920" y="4648320"/>
                <a:ext cx="701352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les of unknown = moles given </m:t>
                    </m:r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efficient of unknow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efficient of give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Using the Mole Ratio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o solve, substitute in the values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 moles given = 1.20 moles A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 moles of unknown = ? moles O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 coefficient of given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A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 coefficient of unknown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O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mole ratio become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e predict that 0.900 mol of 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react with 1.20 mol of A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460440" y="3886200"/>
                <a:ext cx="81057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oles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 moles Al </m:t>
                    </m:r>
                    <m:r>
                      <m:t xml:space="preserve">´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 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 A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 mol 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900 mol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Using the Mole Ratio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e can also predict the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oretical yiel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” - which is defined as the amount of a product forms if all the reactants are converted to product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at it the theoretical yield of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Al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when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1.20 moles of Al reacts? Using the mole ratio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We predict that 0.600 mol of Al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3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should form, if all the reactants are converted into products (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heoretical yiel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28600" y="4038480"/>
                <a:ext cx="86486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oles A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 moles Al </m:t>
                    </m:r>
                    <m:r>
                      <m:t xml:space="preserve">´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 A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 A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 mol A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600 mol A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Terminology of Stoichiometry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Coefficient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-  Numbers that represent the ideal ratios of reacting moles in a balanced chemical reaction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Mole Rati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conversion factor that allows you to determine how much of one substance reacts or forms in a chemical reaction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Theoretical Yiel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amount of a product that should form in a chemical reaction, if all of the reactants are converted into product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2:53:31Z</dcterms:created>
  <dc:creator>Information Services</dc:creator>
  <dc:description/>
  <dc:language>en-US</dc:language>
  <cp:lastModifiedBy>Caitlin</cp:lastModifiedBy>
  <dcterms:modified xsi:type="dcterms:W3CDTF">2012-04-15T23:17:47Z</dcterms:modified>
  <cp:revision>17</cp:revision>
  <dc:subject/>
  <dc:title>Chemistry 11</dc:title>
</cp:coreProperties>
</file>